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D6A16-A114-43B0-B32E-65B26EC29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4AC2F-DC50-40D6-882A-38A99714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8158C-31CE-43C1-A3E9-0326DB1D7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1F60A-5766-4C24-A573-7F8B9ED06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88FBB-7FFF-4DFC-AA84-912589EE8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0B539-A4B7-41C1-859D-D0D20F540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1B1CF-48E5-4AF8-97E3-B027AC3E8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CAD27-01B8-4ACF-A50A-67BF6595B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0A0D6-9F0C-4C7A-B048-1CE36CFDF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73D9-95C5-442C-94A9-FCBF91C1F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65E04-75C5-4530-B80E-7B86EE671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E1B62-4AAD-4597-A1B7-B9DE2B12A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6314-B24B-452A-ABAF-10EF5A874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9CBB1-0B2B-4C51-A53A-F75814901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9A8ED-B6D6-4B08-9A4B-7746557AE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6F009-6F33-4707-A68C-59BB5D51E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04953-512D-4137-BB3F-47859571B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E149A-B73F-4D8A-8D7E-453FF874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0D1B-12C5-4AE5-ABA3-9D014E80D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7305A-AE19-4A3E-9805-4D8D0600B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E8E2-ED7D-414A-82C4-560B561B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31F31-34A6-4F06-A00E-3DE5D7A21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D3E3-CB5D-4A8F-9479-D2270D64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AD9F-2F6E-4737-B72D-9F544FA0C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9256-1AA8-4EF8-85C4-70963AD398F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C20F-5744-466E-8CBF-4EC56B84E96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
          <p:cNvSpPr/>
          <p:nvPr/>
        </p:nvSpPr>
        <p:spPr>
          <a:xfrm>
            <a:off x="457200" y="2057400"/>
            <a:ext cx="8305920" cy="252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000000"/>
                </a:solidFill>
                <a:latin typeface="Cavalier"/>
              </a:rPr>
              <a:t>THEME</a:t>
            </a:r>
            <a:endParaRPr b="0" lang="en-US" sz="85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ff"/>
                </a:solidFill>
                <a:latin typeface="Arial"/>
              </a:rPr>
              <a:t>	</a:t>
            </a:r>
            <a:r>
              <a:rPr b="1" lang="en-GB" sz="1800" spc="-1" strike="noStrike">
                <a:solidFill>
                  <a:srgbClr val="6666ff"/>
                </a:solidFill>
                <a:latin typeface="Arial"/>
              </a:rPr>
              <a:t>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rPr>
              <a:t>	</a:t>
            </a:r>
            <a:endParaRPr b="0" lang="en-US" sz="1800" spc="-1" strike="noStrike">
              <a:solidFill>
                <a:srgbClr val="000000"/>
              </a:solidFill>
              <a:latin typeface="Arial"/>
            </a:endParaRPr>
          </a:p>
        </p:txBody>
      </p:sp>
      <p:sp>
        <p:nvSpPr>
          <p:cNvPr id="85" name=""/>
          <p:cNvSpPr/>
          <p:nvPr/>
        </p:nvSpPr>
        <p:spPr>
          <a:xfrm>
            <a:off x="380880" y="533520"/>
            <a:ext cx="3200400" cy="4125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057400" y="76320"/>
            <a:ext cx="4038480" cy="4125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334120" y="533520"/>
            <a:ext cx="3962160" cy="4125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
          <p:cNvSpPr/>
          <p:nvPr/>
        </p:nvSpPr>
        <p:spPr>
          <a:xfrm>
            <a:off x="2895840" y="2416320"/>
            <a:ext cx="3615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7d4b"/>
                </a:solidFill>
                <a:latin typeface="Cavalier"/>
              </a:rPr>
              <a:t>What is the theme?</a:t>
            </a:r>
            <a:endParaRPr b="0" lang="en-US" sz="3000" spc="-1" strike="noStrike">
              <a:solidFill>
                <a:srgbClr val="000000"/>
              </a:solidFill>
              <a:latin typeface="Arial"/>
            </a:endParaRPr>
          </a:p>
        </p:txBody>
      </p:sp>
      <p:sp>
        <p:nvSpPr>
          <p:cNvPr id="89" name=""/>
          <p:cNvSpPr/>
          <p:nvPr/>
        </p:nvSpPr>
        <p:spPr>
          <a:xfrm>
            <a:off x="2133720" y="30481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7d4b"/>
                </a:solidFill>
                <a:latin typeface="Cavalier"/>
              </a:rPr>
              <a:t>How does it apply to the story?</a:t>
            </a:r>
            <a:endParaRPr b="0" lang="en-US" sz="3000" spc="-1" strike="noStrike">
              <a:solidFill>
                <a:srgbClr val="000000"/>
              </a:solidFill>
              <a:latin typeface="Arial"/>
            </a:endParaRPr>
          </a:p>
        </p:txBody>
      </p:sp>
      <p:sp>
        <p:nvSpPr>
          <p:cNvPr id="90" name=""/>
          <p:cNvSpPr/>
          <p:nvPr/>
        </p:nvSpPr>
        <p:spPr>
          <a:xfrm>
            <a:off x="2209680" y="3733920"/>
            <a:ext cx="5334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7d4b"/>
                </a:solidFill>
                <a:latin typeface="Cavalier"/>
              </a:rPr>
              <a:t>How does it apply to real life?</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456840"/>
            <a:ext cx="7696080" cy="94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07d4b"/>
                </a:solidFill>
                <a:latin typeface="Cavalier"/>
              </a:rPr>
              <a:t>Theme</a:t>
            </a:r>
            <a:endParaRPr b="0" lang="en-US" sz="6000" spc="-1" strike="noStrike">
              <a:solidFill>
                <a:srgbClr val="000c44"/>
              </a:solidFill>
              <a:latin typeface="Arial"/>
            </a:endParaRPr>
          </a:p>
        </p:txBody>
      </p:sp>
      <p:sp>
        <p:nvSpPr>
          <p:cNvPr id="9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107d4b"/>
                </a:solidFill>
                <a:uFillTx/>
                <a:latin typeface="Cavalier"/>
              </a:rPr>
              <a:t>Theme is the overall message or meaning that you think the story is trying to convey.</a:t>
            </a:r>
            <a:r>
              <a:rPr b="1" lang="en-GB" sz="3500" spc="-1" strike="noStrike">
                <a:solidFill>
                  <a:srgbClr val="107d4b"/>
                </a:solidFill>
                <a:latin typeface="Cavalier"/>
              </a:rPr>
              <a:t> As opposed to "Plot," which answers the question "what happened in the story?", </a:t>
            </a:r>
            <a:r>
              <a:rPr b="1" lang="en-GB" sz="3500" spc="-1" strike="noStrike" u="sng">
                <a:solidFill>
                  <a:srgbClr val="107d4b"/>
                </a:solidFill>
                <a:uFillTx/>
                <a:latin typeface="Cavalier"/>
              </a:rPr>
              <a:t>theme answers the question "What does this story mean?".</a:t>
            </a:r>
            <a:endParaRPr b="0" lang="en-US" sz="3500" spc="-1" strike="noStrike">
              <a:solidFill>
                <a:srgbClr val="000000"/>
              </a:solidFill>
              <a:latin typeface="Arial"/>
            </a:endParaRPr>
          </a:p>
          <a:p>
            <a:pPr marL="3394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66680" y="685440"/>
            <a:ext cx="7772400" cy="525780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07d4b"/>
                </a:solidFill>
                <a:latin typeface="Cavalier"/>
              </a:rPr>
              <a:t>Typically, the </a:t>
            </a:r>
            <a:r>
              <a:rPr b="0" lang="en-GB" sz="3500" spc="-1" strike="noStrike" u="sng">
                <a:solidFill>
                  <a:srgbClr val="107d4b"/>
                </a:solidFill>
                <a:uFillTx/>
                <a:latin typeface="Cavalier"/>
              </a:rPr>
              <a:t>theme of a story will</a:t>
            </a:r>
            <a:r>
              <a:rPr b="0" lang="en-GB" sz="3500" spc="-1" strike="noStrike">
                <a:solidFill>
                  <a:srgbClr val="107d4b"/>
                </a:solidFill>
                <a:latin typeface="Cavalier"/>
              </a:rPr>
              <a:t> somehow </a:t>
            </a:r>
            <a:r>
              <a:rPr b="0" lang="en-GB" sz="3500" spc="-1" strike="noStrike" u="sng">
                <a:solidFill>
                  <a:srgbClr val="107d4b"/>
                </a:solidFill>
                <a:uFillTx/>
                <a:latin typeface="Cavalier"/>
              </a:rPr>
              <a:t>relate to our experiences as human beings</a:t>
            </a:r>
            <a:r>
              <a:rPr b="0" lang="en-GB" sz="3500" spc="-1" strike="noStrike">
                <a:solidFill>
                  <a:srgbClr val="107d4b"/>
                </a:solidFill>
                <a:latin typeface="Cavalier"/>
              </a:rPr>
              <a:t>. For instance, </a:t>
            </a:r>
            <a:r>
              <a:rPr b="0" lang="en-GB" sz="3500" spc="-1" strike="noStrike" u="sng">
                <a:solidFill>
                  <a:srgbClr val="107d4b"/>
                </a:solidFill>
                <a:uFillTx/>
                <a:latin typeface="Cavalier"/>
              </a:rPr>
              <a:t>themes will deal with the questions of love, life, death, morality, growing-up, etc.</a:t>
            </a:r>
            <a:endParaRPr b="0" lang="en-US" sz="35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07d4b"/>
                </a:solidFill>
                <a:latin typeface="Cavalier"/>
              </a:rPr>
              <a:t>	</a:t>
            </a:r>
            <a:r>
              <a:rPr b="0" lang="en-GB" sz="3500" spc="-1" strike="noStrike">
                <a:solidFill>
                  <a:srgbClr val="107d4b"/>
                </a:solidFill>
                <a:latin typeface="Cavalier"/>
              </a:rPr>
              <a:t>When dealing with theme you want to be careful not to be too abstract or to oversimplify  the theme.</a:t>
            </a:r>
            <a:endParaRPr b="0" lang="en-US" sz="3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457200"/>
            <a:ext cx="7696080" cy="87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07d4b"/>
                </a:solidFill>
                <a:latin typeface="Cavalier"/>
              </a:rPr>
              <a:t>Common Themes</a:t>
            </a:r>
            <a:endParaRPr b="0" lang="en-US" sz="6000" spc="-1" strike="noStrike">
              <a:solidFill>
                <a:srgbClr val="000c44"/>
              </a:solidFill>
              <a:latin typeface="Arial"/>
            </a:endParaRPr>
          </a:p>
        </p:txBody>
      </p:sp>
      <p:sp>
        <p:nvSpPr>
          <p:cNvPr id="95" name="PlaceHolder 2"/>
          <p:cNvSpPr>
            <a:spLocks noGrp="1"/>
          </p:cNvSpPr>
          <p:nvPr>
            <p:ph/>
          </p:nvPr>
        </p:nvSpPr>
        <p:spPr>
          <a:xfrm>
            <a:off x="1143000" y="1752120"/>
            <a:ext cx="7696080" cy="3861000"/>
          </a:xfrm>
          <a:prstGeom prst="rect">
            <a:avLst/>
          </a:prstGeom>
          <a:noFill/>
          <a:ln w="0">
            <a:noFill/>
          </a:ln>
        </p:spPr>
        <p:txBody>
          <a:bodyPr anchor="t">
            <a:normAutofit fontScale="92000"/>
          </a:bodyPr>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Some simple examples of common themes from literature, TV, and film are:</a:t>
            </a:r>
            <a:endParaRPr b="0" lang="en-US" sz="3300" spc="-1" strike="noStrike">
              <a:solidFill>
                <a:srgbClr val="000000"/>
              </a:solidFill>
              <a:latin typeface="Arial"/>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Things are not always as they appear to be</a:t>
            </a: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 </a:t>
            </a:r>
            <a:r>
              <a:rPr b="0" lang="en-US" sz="3300" spc="-1" strike="noStrike">
                <a:solidFill>
                  <a:srgbClr val="107d4b"/>
                </a:solidFill>
                <a:latin typeface="Cavalier"/>
              </a:rPr>
              <a:t>Love is blind</a:t>
            </a: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 </a:t>
            </a:r>
            <a:r>
              <a:rPr b="0" lang="en-US" sz="3300" spc="-1" strike="noStrike">
                <a:solidFill>
                  <a:srgbClr val="107d4b"/>
                </a:solidFill>
                <a:latin typeface="Cavalier"/>
              </a:rPr>
              <a:t>Believe in yourself</a:t>
            </a: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 </a:t>
            </a:r>
            <a:r>
              <a:rPr b="0" lang="en-US" sz="3300" spc="-1" strike="noStrike">
                <a:solidFill>
                  <a:srgbClr val="107d4b"/>
                </a:solidFill>
                <a:latin typeface="Cavalier"/>
              </a:rPr>
              <a:t>People are afraid of change</a:t>
            </a:r>
            <a:endParaRPr b="0" lang="en-US" sz="3300" spc="-1" strike="noStrike">
              <a:solidFill>
                <a:srgbClr val="000000"/>
              </a:solidFill>
              <a:latin typeface="Arial"/>
            </a:endParaRPr>
          </a:p>
          <a:p>
            <a:pPr marL="31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6" name=""/>
          <p:cNvSpPr/>
          <p:nvPr/>
        </p:nvSpPr>
        <p:spPr>
          <a:xfrm>
            <a:off x="1219320" y="457200"/>
            <a:ext cx="7467480" cy="772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7d4b"/>
                </a:solidFill>
                <a:latin typeface="Cavalier"/>
              </a:rPr>
              <a:t>The theme in a piece of fiction is it’s controlling idea or it’s central insight. </a:t>
            </a:r>
            <a:r>
              <a:rPr b="0" lang="en-US" sz="3200" spc="-1" strike="noStrike" u="sng">
                <a:solidFill>
                  <a:srgbClr val="107d4b"/>
                </a:solidFill>
                <a:uFillTx/>
                <a:latin typeface="Cavalier"/>
              </a:rPr>
              <a:t>It is the authors underlying meaning or main idea</a:t>
            </a:r>
            <a:r>
              <a:rPr b="0" lang="en-US" sz="3200" spc="-1" strike="noStrike">
                <a:solidFill>
                  <a:srgbClr val="107d4b"/>
                </a:solidFill>
                <a:latin typeface="Cavalier"/>
              </a:rPr>
              <a:t> that he is trying to convey. The </a:t>
            </a:r>
            <a:r>
              <a:rPr b="0" lang="en-US" sz="3200" spc="-1" strike="noStrike" u="sng">
                <a:solidFill>
                  <a:srgbClr val="107d4b"/>
                </a:solidFill>
                <a:uFillTx/>
                <a:latin typeface="Cavalier"/>
              </a:rPr>
              <a:t>theme may be the authors thoughts about a topic or view of human nature.</a:t>
            </a:r>
            <a:r>
              <a:rPr b="0" lang="en-US" sz="3200" spc="-1" strike="noStrike">
                <a:solidFill>
                  <a:srgbClr val="107d4b"/>
                </a:solidFill>
                <a:latin typeface="Cavalier"/>
              </a:rPr>
              <a:t> The title of the story sometimes points to what the writer is saying and he may use various figures of speech to emphasize his theme, such as: symbol, allusion, simile, metaphor, hyperbole, or irony.</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07d4b"/>
                </a:solidFill>
                <a:latin typeface="Arial"/>
              </a:rPr>
              <a:t>Your assignment:</a:t>
            </a:r>
            <a:r>
              <a:rPr b="0" lang="en-US" sz="4800" spc="-1" strike="noStrike">
                <a:solidFill>
                  <a:srgbClr val="107d4b"/>
                </a:solidFill>
                <a:latin typeface="Arial"/>
              </a:rPr>
              <a:t>	</a:t>
            </a:r>
            <a:r>
              <a:rPr b="0" lang="en-US" sz="4800" spc="-1" strike="noStrike">
                <a:solidFill>
                  <a:srgbClr val="107d4b"/>
                </a:solidFill>
                <a:latin typeface="Arial"/>
              </a:rPr>
              <a:t>	</a:t>
            </a:r>
            <a:r>
              <a:rPr b="0" lang="en-US" sz="4800" spc="-1" strike="noStrike">
                <a:solidFill>
                  <a:srgbClr val="107d4b"/>
                </a:solidFill>
                <a:latin typeface="Arial"/>
              </a:rPr>
              <a:t>	</a:t>
            </a:r>
            <a:endParaRPr b="0" lang="en-US" sz="4800" spc="-1" strike="noStrike">
              <a:solidFill>
                <a:srgbClr val="000c44"/>
              </a:solidFill>
              <a:latin typeface="Arial"/>
            </a:endParaRPr>
          </a:p>
        </p:txBody>
      </p:sp>
      <p:sp>
        <p:nvSpPr>
          <p:cNvPr id="98"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a:t>
            </a:r>
            <a:r>
              <a:rPr b="0" lang="en-US" sz="2800" spc="-1" strike="noStrike">
                <a:solidFill>
                  <a:srgbClr val="000000"/>
                </a:solidFill>
                <a:latin typeface="Arial"/>
              </a:rPr>
              <a:t> – one well written paragraph describing the conflict(s) of the story.</a:t>
            </a:r>
            <a:endParaRPr b="0" lang="en-US" sz="2800" spc="-1" strike="noStrike">
              <a:solidFill>
                <a:srgbClr val="000000"/>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me</a:t>
            </a:r>
            <a:r>
              <a:rPr b="0" lang="en-US" sz="2800" spc="-1" strike="noStrike">
                <a:solidFill>
                  <a:srgbClr val="000000"/>
                </a:solidFill>
                <a:latin typeface="Arial"/>
              </a:rPr>
              <a:t> – one well written paragraph explaining the theme of the story – what is the message the author wants you to get from the story.</a:t>
            </a:r>
            <a:endParaRPr b="0" lang="en-US" sz="2800" spc="-1" strike="noStrike">
              <a:solidFill>
                <a:srgbClr val="000000"/>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ction</a:t>
            </a:r>
            <a:r>
              <a:rPr b="0" lang="en-US" sz="2800" spc="-1" strike="noStrike">
                <a:solidFill>
                  <a:srgbClr val="000000"/>
                </a:solidFill>
                <a:latin typeface="Arial"/>
              </a:rPr>
              <a:t> – one well written paragraph telling me how this story made you feel.  Can you identify with any of the characters?  What did you like about the story?  What didn’t you lik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6:19:17Z</dcterms:created>
  <dc:creator>rogersb</dc:creator>
  <dc:description/>
  <dc:language>en-US</dc:language>
  <cp:lastModifiedBy>clarys</cp:lastModifiedBy>
  <dcterms:modified xsi:type="dcterms:W3CDTF">2008-10-07T16:48:21Z</dcterms:modified>
  <cp:revision>8</cp:revision>
  <dc:subject/>
  <dc:title>Slide 1</dc:title>
</cp:coreProperties>
</file>